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8E3-9134-4EB3-843B-17826EFC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D78-E07B-4BC0-B561-42DC2694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DFF-6EAB-49F5-A8C2-57DE658E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1F7-759D-43BE-8957-3FD8DAC8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E268-9729-4686-A262-CA7F2336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0B85-E643-4797-9F4B-0525C384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0767-3EB5-41DA-AEAC-5EBA5CD4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53D1-564B-4779-A425-672755B2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0D45-B0A2-4286-9206-5554AA35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632D-A5CD-45DB-B4F4-A26E2064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6B2E-635B-4450-95DB-E25DAA29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FFE-96EE-4455-8CB3-C377AAEF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15D0-940D-4549-9BCC-C7C170D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A9A2-94A8-414A-86C8-DE830AA2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550C-4B1E-468A-8D7E-07AACFF9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A7B0-F43A-4E04-94B8-F97122E0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DB15-BBC2-4B83-A77E-3D7F759D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95E-B39C-40B9-AA75-1E6F7B7D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64C-4B60-4D0E-959D-85699EBD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B97-72B4-40A7-BE9C-4AA7A9AD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FD7-1F16-4880-84BE-15FD5B93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10D-E686-497E-A613-98383866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93A-5184-4680-A47A-CB3CB02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F87-06D0-4E17-813C-4076B9F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1028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1029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1030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1031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1032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1033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0F07-3015-4347-8FC0-F3D313B657C2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EFAB-26FC-4F3E-9E70-11B4B763A5FE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ot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ot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ation marks are put around the beginning and the end of the exact words a person s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 the door open,” Mom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sked, “Where are you going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the store,” explained M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houted, “Wait for me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Do Quotation Marks Go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ake a right turn at the pond, Ralp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i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ake a right turn at the pond,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Ralph sai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Do Quotation Marks Go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vid asked, Where are my new jean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vid asked,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ere are my new jeans?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6:13:23Z</dcterms:created>
  <dc:creator>GCSD</dc:creator>
  <dc:description/>
  <dc:language>en-US</dc:language>
  <cp:lastModifiedBy>teacher</cp:lastModifiedBy>
  <dcterms:modified xsi:type="dcterms:W3CDTF">2011-04-18T14:16:47Z</dcterms:modified>
  <cp:revision>3</cp:revision>
  <dc:subject/>
  <dc:title>Quotation Marks</dc:title>
</cp:coreProperties>
</file>